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3E96-4490-4D20-AC7A-F6FA03C6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B359-ECC1-4BDA-955E-CEED6117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39F2-D5F3-4989-8AE2-86FA3C17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A0D8-869E-446C-AE6C-1B71BA2E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F72-F452-410E-AEEF-F54809F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05AD-0F69-4F0D-B737-646F5112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8DB-3D62-4D04-89B6-444A71AE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6962-8087-491B-A993-403A5839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18C-E74C-4F69-997C-E8084999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DA2-015E-4D7E-8DCF-225470F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C852-600C-424A-9290-D3EF660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EFBF-36A0-455C-8A6B-CFABFEBB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C188-12F3-4003-9A52-50947BD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8BC-D025-44C9-99AE-A58CF4E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650-A664-4940-84D4-04216FB3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C8ED-F545-43E3-B8A8-2D613F62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19C-371F-48D8-A159-A978FDCA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0869-9A86-464C-AE18-EEC96B7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74B1-3D19-48AF-B397-8F6B895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FD92-0BFA-4F3F-852C-AA3F68D8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ACAF-73AB-4902-AFA2-7B52E63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AD00-BB1A-4D69-B7AF-05FAFE9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E6F7-3F8E-459D-9CDA-586EA67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3203-3FA1-4954-9220-F3CAC28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86E-FDCA-4EB3-B18B-B5194956A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81D-9241-49E6-99CA-F2CC0889D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REEDOM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ID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322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23840" y="571176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z.about.com/d/afroamhistory/1/0/E/8/busdesegregation_freedomrid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were attacked or threatened for helping bl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5099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bama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 most trouble, it turned into a strugg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way ‘cross Alab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‘hound broke down, and left us all strand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wntown Birmingh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600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em by Chuck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65833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www.npr.org/templates/story/story.php?storyId=51496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080" y="65530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em found 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aci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James 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gainst racial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38000" y="624852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z.about.com/d/afroamhistory/1/0/O/4/jamesfarm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on two buses from Washington D.C. to 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52216" t="2894" r="1284" b="0"/>
          <a:stretch/>
        </p:blipFill>
        <p:spPr>
          <a:xfrm>
            <a:off x="4419720" y="1447920"/>
            <a:ext cx="3733560" cy="5114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5029200" y="327636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86720" y="656424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www.greatplay.net/blank-us.b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nviolent Coordina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21055200">
            <a:off x="1142640" y="3276720"/>
            <a:ext cx="149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 rot="284400">
            <a:off x="6019560" y="327672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ELP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76720" y="4952880"/>
            <a:ext cx="200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of Racial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291600">
            <a:off x="6477120" y="4343400"/>
            <a:ext cx="149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 rot="20115600">
            <a:off x="1523520" y="3200040"/>
            <a:ext cx="24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BIG HEL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09680" y="5257800"/>
            <a:ext cx="271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DEVELOP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u Klux K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1224600">
            <a:off x="964800" y="2994120"/>
            <a:ext cx="1219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20040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0523600">
            <a:off x="228240" y="5791320"/>
            <a:ext cx="2795760" cy="24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 rot="18827400">
            <a:off x="6057720" y="4304880"/>
            <a:ext cx="2495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RAC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n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e on buses to stop racial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od up for Tom Robinson when he was tr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447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447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267080" cy="2344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41148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3160"/>
            <a:ext cx="403848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 racism was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2243160"/>
            <a:ext cx="403848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 racism was igno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447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447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22923" r="0" b="16673"/>
          <a:stretch/>
        </p:blipFill>
        <p:spPr>
          <a:xfrm>
            <a:off x="1523880" y="3886200"/>
            <a:ext cx="55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, people were fighting for equal rights and ending discrimination for bl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52680" y="3809880"/>
            <a:ext cx="2057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19920" y="3733920"/>
            <a:ext cx="1676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auhaus 93"/>
              </a:rPr>
              <a:t>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auhaus 93"/>
              <a:ea typeface="Bauhaus 93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3733920"/>
            <a:ext cx="1676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uhaus 93"/>
              </a:rPr>
              <a:t>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uhaus 93"/>
              <a:ea typeface="Bauhaus 93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4267080"/>
            <a:ext cx="125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4267080"/>
            <a:ext cx="114444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3:21:47Z</dcterms:created>
  <dc:creator>MBOE</dc:creator>
  <dc:description/>
  <dc:language>en-US</dc:language>
  <cp:lastModifiedBy>james malaney User</cp:lastModifiedBy>
  <dcterms:modified xsi:type="dcterms:W3CDTF">2009-04-01T02:05:52Z</dcterms:modified>
  <cp:revision>4</cp:revision>
  <dc:subject/>
  <dc:title>FREEDOM RIDERS</dc:title>
</cp:coreProperties>
</file>